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5FC8-1B4B-422F-A0A3-F1BE02481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38DF-68C7-46A2-92CC-196FFAC72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51DE-0EAB-4A35-9F5B-58D156218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7BB1-26B8-4C0C-A433-4D0E3BC6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D39C-968D-4DDF-B0F4-C529C109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157C-2067-4793-8544-EF72FC54E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D9B4-7C8D-4447-B3D2-147E2BDA9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245-D6BC-418D-80B6-1E2FDA49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0B3-F947-4E16-8B49-D473D4B7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526-349B-4DA1-B0CC-4293CD41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634-F650-49EF-ACDE-2ED465B7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90A0-7C6D-49E8-9361-A001D8CC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A5B1-7651-4BC2-8FAE-F7EF3223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9769-14F6-48BB-B508-02AD1FBE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F796-F2F6-41D7-8462-E25FDD44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32BF-4F1B-46F6-81A1-A15DBAC3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99B8-8342-48A3-8965-7534CB30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5F87-5DBB-4AFD-ADE1-7AC22B0A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8F2-F909-47EB-843C-B49C8D79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3294-20DE-4782-9376-EA333B6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330E-DF8E-4B28-B255-0F56FF22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E663-5641-48D6-B5EA-456CDC4B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510B-BB61-484F-9C8B-20E7A58D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13EC-8C05-4AB0-BDEE-CE619A9E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5C5-1573-468D-B080-09A45CF5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DCD-0352-4795-AEC3-ED9225C0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A19-90BD-4579-9775-B8B50C50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16B-4700-4961-BDE2-3A1C9F2C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CD3-9C11-4F0E-881E-E5D86C06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221-484B-4AB9-903D-F93432F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AFE-45AA-411F-B946-19119CCA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D28B-9FB5-42E6-A8E0-64478FC7ECCB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10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A580-5CCF-44D2-B80D-91AFDBD56932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.opasnet.org/fi/Eracedu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opasnet.org/w/Darm" TargetMode="External"/><Relationship Id="rId2" Type="http://schemas.openxmlformats.org/officeDocument/2006/relationships/hyperlink" Target="http://en.opasnet.org/w/Urgench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Päätösanalyysia ja riskinhallintaa tapausesimerkin kautta - Johdanto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ikko Pohjola, THL, Ku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Riskin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0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iskinhallinta on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“päätöksenteon ja toimenpiteiden organisointia tunnistettujen ja koettujen riskien suhtee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yritään vaikuttamaan siihen mitä toimintaa oikeasti tapahtuu riskien suhteen/vaikutuks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 tekijät ohjaavat riskin hallintaa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ärjestelmällinen arvioint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(vain) yksi näistä tekijö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Riskin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0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Järjestelmällinen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iskin hallinta tunnistaa riskinarvioinnin tarpeita ja soveltaa arvioinneista (ja muualta) saatavaa tietoa käytäntöö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hjimmiltaan riskinarvioinnin ja -hallinnan päämäärän tulisi olla sama: hyvät yhteiskunnallisesti merkittävä päätökset ja toimenpit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 Päätöksentekoa tukeva arviointi (normatiivinen päätösanalyys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ösanalyysi ja -malli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55344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ösanalyysi ja riskin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äätöstilanteet ja –vaihtoehd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votut/ei-toivotut vaikutuk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kutusket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nalyy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nta analyysin pohja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teutuvien vaikutusten seura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ösanalyysi ja riskin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olme näkökulma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o –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”tiede/arvioi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ksenteko/toiminta –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”politiikk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salliset/sivulliset –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”sidosryhmät/kansalais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, toiminta ja vaikutu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 flipH="1" flipV="1">
            <a:off x="1619280" y="3933360"/>
            <a:ext cx="1225440" cy="84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 flipV="1">
            <a:off x="3421080" y="3933360"/>
            <a:ext cx="1366920" cy="84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3780000" y="1627200"/>
            <a:ext cx="2016000" cy="10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ther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4788000" y="2708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24000" y="3141720"/>
            <a:ext cx="25192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765440" y="4797360"/>
            <a:ext cx="251928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6732720" y="2997360"/>
            <a:ext cx="2087280" cy="1079280"/>
          </a:xfrm>
          <a:prstGeom prst="hexagon">
            <a:avLst>
              <a:gd name="adj" fmla="val 4834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5940360" y="35733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3421080" y="3141720"/>
            <a:ext cx="25192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V="1">
            <a:off x="4284720" y="3644640"/>
            <a:ext cx="244800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Avoin riskin 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826920" y="2349360"/>
            <a:ext cx="3816360" cy="251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collaborative gam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55640" y="1413000"/>
            <a:ext cx="1440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635280" y="5300640"/>
            <a:ext cx="1440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9280" y="5300640"/>
            <a:ext cx="1440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002200" y="3141720"/>
            <a:ext cx="1871640" cy="1008000"/>
          </a:xfrm>
          <a:prstGeom prst="hexagon">
            <a:avLst>
              <a:gd name="adj" fmla="val 4642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cision 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900000" y="4723920"/>
            <a:ext cx="935280" cy="576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 flipH="1" flipV="1">
            <a:off x="3564000" y="4726080"/>
            <a:ext cx="792000" cy="574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4643280" y="3645000"/>
            <a:ext cx="3589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1474920" y="2131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5073480" y="1413000"/>
            <a:ext cx="1584360" cy="1150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ther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5865840" y="2565360"/>
            <a:ext cx="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7380360" y="2925720"/>
            <a:ext cx="1512720" cy="1366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6877080" y="3645000"/>
            <a:ext cx="503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2122560" y="5084640"/>
            <a:ext cx="1225440" cy="1152720"/>
          </a:xfrm>
          <a:prstGeom prst="diamond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utc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1619280" y="5661000"/>
            <a:ext cx="50328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578560" y="5084640"/>
            <a:ext cx="1225440" cy="1152720"/>
          </a:xfrm>
          <a:prstGeom prst="diamond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utc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075280" y="5661000"/>
            <a:ext cx="50328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Avoin riskin hallinta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826920" y="1989000"/>
            <a:ext cx="7632720" cy="4176720"/>
            <a:chOff x="826920" y="1989000"/>
            <a:chExt cx="7632720" cy="4176720"/>
          </a:xfrm>
        </p:grpSpPr>
        <p:sp>
          <p:nvSpPr>
            <p:cNvPr id="161" name="Oval 4"/>
            <p:cNvSpPr/>
            <p:nvPr/>
          </p:nvSpPr>
          <p:spPr>
            <a:xfrm>
              <a:off x="826920" y="1989000"/>
              <a:ext cx="763272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5"/>
            <p:cNvGrpSpPr/>
            <p:nvPr/>
          </p:nvGrpSpPr>
          <p:grpSpPr>
            <a:xfrm>
              <a:off x="2484000" y="2205000"/>
              <a:ext cx="5329800" cy="3527640"/>
              <a:chOff x="2484000" y="2205000"/>
              <a:chExt cx="5329800" cy="3527640"/>
            </a:xfrm>
          </p:grpSpPr>
          <p:grpSp>
            <p:nvGrpSpPr>
              <p:cNvPr id="163" name="Group 6"/>
              <p:cNvGrpSpPr/>
              <p:nvPr/>
            </p:nvGrpSpPr>
            <p:grpSpPr>
              <a:xfrm>
                <a:off x="2771280" y="4221000"/>
                <a:ext cx="505440" cy="1440000"/>
                <a:chOff x="2771280" y="4221000"/>
                <a:chExt cx="505440" cy="1440000"/>
              </a:xfrm>
            </p:grpSpPr>
            <p:sp>
              <p:nvSpPr>
                <p:cNvPr id="164" name="Oval 7"/>
                <p:cNvSpPr/>
                <p:nvPr/>
              </p:nvSpPr>
              <p:spPr>
                <a:xfrm>
                  <a:off x="2835000" y="4221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8"/>
                <p:cNvSpPr/>
                <p:nvPr/>
              </p:nvSpPr>
              <p:spPr>
                <a:xfrm>
                  <a:off x="3024000" y="4598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9"/>
                <p:cNvSpPr/>
                <p:nvPr/>
              </p:nvSpPr>
              <p:spPr>
                <a:xfrm flipH="1">
                  <a:off x="286632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10"/>
                <p:cNvSpPr/>
                <p:nvPr/>
              </p:nvSpPr>
              <p:spPr>
                <a:xfrm>
                  <a:off x="302400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11"/>
                <p:cNvSpPr/>
                <p:nvPr/>
              </p:nvSpPr>
              <p:spPr>
                <a:xfrm flipH="1">
                  <a:off x="277128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2"/>
                <p:cNvSpPr/>
                <p:nvPr/>
              </p:nvSpPr>
              <p:spPr>
                <a:xfrm>
                  <a:off x="318204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3"/>
                <p:cNvSpPr/>
                <p:nvPr/>
              </p:nvSpPr>
              <p:spPr>
                <a:xfrm flipH="1">
                  <a:off x="280296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4"/>
                <p:cNvSpPr/>
                <p:nvPr/>
              </p:nvSpPr>
              <p:spPr>
                <a:xfrm>
                  <a:off x="302400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5"/>
              <p:cNvGrpSpPr/>
              <p:nvPr/>
            </p:nvGrpSpPr>
            <p:grpSpPr>
              <a:xfrm>
                <a:off x="7308360" y="3284640"/>
                <a:ext cx="505440" cy="1439640"/>
                <a:chOff x="7308360" y="3284640"/>
                <a:chExt cx="505440" cy="1439640"/>
              </a:xfrm>
            </p:grpSpPr>
            <p:sp>
              <p:nvSpPr>
                <p:cNvPr id="173" name="Oval 16"/>
                <p:cNvSpPr/>
                <p:nvPr/>
              </p:nvSpPr>
              <p:spPr>
                <a:xfrm>
                  <a:off x="7372080" y="328464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17"/>
                <p:cNvSpPr/>
                <p:nvPr/>
              </p:nvSpPr>
              <p:spPr>
                <a:xfrm>
                  <a:off x="7561080" y="366156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18"/>
                <p:cNvSpPr/>
                <p:nvPr/>
              </p:nvSpPr>
              <p:spPr>
                <a:xfrm flipH="1">
                  <a:off x="740340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9"/>
                <p:cNvSpPr/>
                <p:nvPr/>
              </p:nvSpPr>
              <p:spPr>
                <a:xfrm>
                  <a:off x="756108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0"/>
                <p:cNvSpPr/>
                <p:nvPr/>
              </p:nvSpPr>
              <p:spPr>
                <a:xfrm flipH="1">
                  <a:off x="730836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1"/>
                <p:cNvSpPr/>
                <p:nvPr/>
              </p:nvSpPr>
              <p:spPr>
                <a:xfrm>
                  <a:off x="771912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2"/>
                <p:cNvSpPr/>
                <p:nvPr/>
              </p:nvSpPr>
              <p:spPr>
                <a:xfrm flipH="1">
                  <a:off x="734004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3"/>
                <p:cNvSpPr/>
                <p:nvPr/>
              </p:nvSpPr>
              <p:spPr>
                <a:xfrm>
                  <a:off x="756108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4"/>
              <p:cNvGrpSpPr/>
              <p:nvPr/>
            </p:nvGrpSpPr>
            <p:grpSpPr>
              <a:xfrm>
                <a:off x="2484000" y="2637000"/>
                <a:ext cx="505440" cy="1439640"/>
                <a:chOff x="2484000" y="2637000"/>
                <a:chExt cx="505440" cy="1439640"/>
              </a:xfrm>
            </p:grpSpPr>
            <p:sp>
              <p:nvSpPr>
                <p:cNvPr id="182" name="Oval 25"/>
                <p:cNvSpPr/>
                <p:nvPr/>
              </p:nvSpPr>
              <p:spPr>
                <a:xfrm>
                  <a:off x="2547720" y="263700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6"/>
                <p:cNvSpPr/>
                <p:nvPr/>
              </p:nvSpPr>
              <p:spPr>
                <a:xfrm>
                  <a:off x="2736720" y="3013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7"/>
                <p:cNvSpPr/>
                <p:nvPr/>
              </p:nvSpPr>
              <p:spPr>
                <a:xfrm flipH="1">
                  <a:off x="257904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28"/>
                <p:cNvSpPr/>
                <p:nvPr/>
              </p:nvSpPr>
              <p:spPr>
                <a:xfrm>
                  <a:off x="273672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9"/>
                <p:cNvSpPr/>
                <p:nvPr/>
              </p:nvSpPr>
              <p:spPr>
                <a:xfrm flipH="1">
                  <a:off x="248400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0"/>
                <p:cNvSpPr/>
                <p:nvPr/>
              </p:nvSpPr>
              <p:spPr>
                <a:xfrm>
                  <a:off x="289476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1"/>
                <p:cNvSpPr/>
                <p:nvPr/>
              </p:nvSpPr>
              <p:spPr>
                <a:xfrm flipH="1">
                  <a:off x="251568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2"/>
                <p:cNvSpPr/>
                <p:nvPr/>
              </p:nvSpPr>
              <p:spPr>
                <a:xfrm>
                  <a:off x="273672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33"/>
              <p:cNvGrpSpPr/>
              <p:nvPr/>
            </p:nvGrpSpPr>
            <p:grpSpPr>
              <a:xfrm>
                <a:off x="3419640" y="2349360"/>
                <a:ext cx="504360" cy="1440000"/>
                <a:chOff x="3419640" y="2349360"/>
                <a:chExt cx="504360" cy="1440000"/>
              </a:xfrm>
            </p:grpSpPr>
            <p:sp>
              <p:nvSpPr>
                <p:cNvPr id="191" name="Oval 34"/>
                <p:cNvSpPr/>
                <p:nvPr/>
              </p:nvSpPr>
              <p:spPr>
                <a:xfrm>
                  <a:off x="3483000" y="234936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35"/>
                <p:cNvSpPr/>
                <p:nvPr/>
              </p:nvSpPr>
              <p:spPr>
                <a:xfrm>
                  <a:off x="3672000" y="272664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36"/>
                <p:cNvSpPr/>
                <p:nvPr/>
              </p:nvSpPr>
              <p:spPr>
                <a:xfrm flipH="1">
                  <a:off x="351396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37"/>
                <p:cNvSpPr/>
                <p:nvPr/>
              </p:nvSpPr>
              <p:spPr>
                <a:xfrm>
                  <a:off x="367200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38"/>
                <p:cNvSpPr/>
                <p:nvPr/>
              </p:nvSpPr>
              <p:spPr>
                <a:xfrm flipH="1">
                  <a:off x="341964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39"/>
                <p:cNvSpPr/>
                <p:nvPr/>
              </p:nvSpPr>
              <p:spPr>
                <a:xfrm>
                  <a:off x="382968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0"/>
                <p:cNvSpPr/>
                <p:nvPr/>
              </p:nvSpPr>
              <p:spPr>
                <a:xfrm flipH="1">
                  <a:off x="345096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1"/>
                <p:cNvSpPr/>
                <p:nvPr/>
              </p:nvSpPr>
              <p:spPr>
                <a:xfrm>
                  <a:off x="367200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42"/>
              <p:cNvGrpSpPr/>
              <p:nvPr/>
            </p:nvGrpSpPr>
            <p:grpSpPr>
              <a:xfrm>
                <a:off x="4716000" y="2205000"/>
                <a:ext cx="505440" cy="1440000"/>
                <a:chOff x="4716000" y="2205000"/>
                <a:chExt cx="505440" cy="1440000"/>
              </a:xfrm>
            </p:grpSpPr>
            <p:sp>
              <p:nvSpPr>
                <p:cNvPr id="200" name="Oval 43"/>
                <p:cNvSpPr/>
                <p:nvPr/>
              </p:nvSpPr>
              <p:spPr>
                <a:xfrm>
                  <a:off x="4779720" y="2205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44"/>
                <p:cNvSpPr/>
                <p:nvPr/>
              </p:nvSpPr>
              <p:spPr>
                <a:xfrm>
                  <a:off x="4968720" y="2582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45"/>
                <p:cNvSpPr/>
                <p:nvPr/>
              </p:nvSpPr>
              <p:spPr>
                <a:xfrm flipH="1">
                  <a:off x="481104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46"/>
                <p:cNvSpPr/>
                <p:nvPr/>
              </p:nvSpPr>
              <p:spPr>
                <a:xfrm>
                  <a:off x="496872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47"/>
                <p:cNvSpPr/>
                <p:nvPr/>
              </p:nvSpPr>
              <p:spPr>
                <a:xfrm flipH="1">
                  <a:off x="471600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48"/>
                <p:cNvSpPr/>
                <p:nvPr/>
              </p:nvSpPr>
              <p:spPr>
                <a:xfrm>
                  <a:off x="512676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49"/>
                <p:cNvSpPr/>
                <p:nvPr/>
              </p:nvSpPr>
              <p:spPr>
                <a:xfrm flipH="1">
                  <a:off x="474768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0"/>
                <p:cNvSpPr/>
                <p:nvPr/>
              </p:nvSpPr>
              <p:spPr>
                <a:xfrm>
                  <a:off x="496872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51"/>
              <p:cNvGrpSpPr/>
              <p:nvPr/>
            </p:nvGrpSpPr>
            <p:grpSpPr>
              <a:xfrm>
                <a:off x="5796000" y="4292640"/>
                <a:ext cx="504360" cy="1440000"/>
                <a:chOff x="5796000" y="4292640"/>
                <a:chExt cx="504360" cy="1440000"/>
              </a:xfrm>
            </p:grpSpPr>
            <p:sp>
              <p:nvSpPr>
                <p:cNvPr id="209" name="Oval 52"/>
                <p:cNvSpPr/>
                <p:nvPr/>
              </p:nvSpPr>
              <p:spPr>
                <a:xfrm>
                  <a:off x="5859360" y="429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53"/>
                <p:cNvSpPr/>
                <p:nvPr/>
              </p:nvSpPr>
              <p:spPr>
                <a:xfrm>
                  <a:off x="6048360" y="466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54"/>
                <p:cNvSpPr/>
                <p:nvPr/>
              </p:nvSpPr>
              <p:spPr>
                <a:xfrm flipH="1">
                  <a:off x="589032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55"/>
                <p:cNvSpPr/>
                <p:nvPr/>
              </p:nvSpPr>
              <p:spPr>
                <a:xfrm>
                  <a:off x="604836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56"/>
                <p:cNvSpPr/>
                <p:nvPr/>
              </p:nvSpPr>
              <p:spPr>
                <a:xfrm flipH="1">
                  <a:off x="579600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57"/>
                <p:cNvSpPr/>
                <p:nvPr/>
              </p:nvSpPr>
              <p:spPr>
                <a:xfrm>
                  <a:off x="620604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58"/>
                <p:cNvSpPr/>
                <p:nvPr/>
              </p:nvSpPr>
              <p:spPr>
                <a:xfrm flipH="1">
                  <a:off x="582732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59"/>
                <p:cNvSpPr/>
                <p:nvPr/>
              </p:nvSpPr>
              <p:spPr>
                <a:xfrm>
                  <a:off x="604836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60"/>
              <p:cNvGrpSpPr/>
              <p:nvPr/>
            </p:nvGrpSpPr>
            <p:grpSpPr>
              <a:xfrm>
                <a:off x="6372360" y="2852640"/>
                <a:ext cx="504360" cy="1440000"/>
                <a:chOff x="6372360" y="2852640"/>
                <a:chExt cx="504360" cy="1440000"/>
              </a:xfrm>
            </p:grpSpPr>
            <p:sp>
              <p:nvSpPr>
                <p:cNvPr id="218" name="Oval 61"/>
                <p:cNvSpPr/>
                <p:nvPr/>
              </p:nvSpPr>
              <p:spPr>
                <a:xfrm>
                  <a:off x="6435720" y="285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62"/>
                <p:cNvSpPr/>
                <p:nvPr/>
              </p:nvSpPr>
              <p:spPr>
                <a:xfrm>
                  <a:off x="6624720" y="322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63"/>
                <p:cNvSpPr/>
                <p:nvPr/>
              </p:nvSpPr>
              <p:spPr>
                <a:xfrm flipH="1">
                  <a:off x="646668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64"/>
                <p:cNvSpPr/>
                <p:nvPr/>
              </p:nvSpPr>
              <p:spPr>
                <a:xfrm>
                  <a:off x="662472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65"/>
                <p:cNvSpPr/>
                <p:nvPr/>
              </p:nvSpPr>
              <p:spPr>
                <a:xfrm flipH="1">
                  <a:off x="637236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66"/>
                <p:cNvSpPr/>
                <p:nvPr/>
              </p:nvSpPr>
              <p:spPr>
                <a:xfrm>
                  <a:off x="678240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67"/>
                <p:cNvSpPr/>
                <p:nvPr/>
              </p:nvSpPr>
              <p:spPr>
                <a:xfrm flipH="1">
                  <a:off x="640368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68"/>
                <p:cNvSpPr/>
                <p:nvPr/>
              </p:nvSpPr>
              <p:spPr>
                <a:xfrm>
                  <a:off x="662472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6" name="Group 69"/>
          <p:cNvGrpSpPr/>
          <p:nvPr/>
        </p:nvGrpSpPr>
        <p:grpSpPr>
          <a:xfrm>
            <a:off x="3214800" y="3933720"/>
            <a:ext cx="2220840" cy="1656000"/>
            <a:chOff x="3214800" y="3933720"/>
            <a:chExt cx="2220840" cy="1656000"/>
          </a:xfrm>
        </p:grpSpPr>
        <p:grpSp>
          <p:nvGrpSpPr>
            <p:cNvPr id="227" name="Group 70"/>
            <p:cNvGrpSpPr/>
            <p:nvPr/>
          </p:nvGrpSpPr>
          <p:grpSpPr>
            <a:xfrm>
              <a:off x="4284720" y="3933720"/>
              <a:ext cx="1150920" cy="1656000"/>
              <a:chOff x="4284720" y="3933720"/>
              <a:chExt cx="1150920" cy="1656000"/>
            </a:xfrm>
          </p:grpSpPr>
          <p:sp>
            <p:nvSpPr>
              <p:cNvPr id="228" name="Rectangle 71"/>
              <p:cNvSpPr/>
              <p:nvPr/>
            </p:nvSpPr>
            <p:spPr>
              <a:xfrm>
                <a:off x="4284720" y="3933720"/>
                <a:ext cx="1150920" cy="16560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72"/>
              <p:cNvSpPr/>
              <p:nvPr/>
            </p:nvSpPr>
            <p:spPr>
              <a:xfrm>
                <a:off x="4643280" y="4437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73"/>
              <p:cNvSpPr/>
              <p:nvPr/>
            </p:nvSpPr>
            <p:spPr>
              <a:xfrm>
                <a:off x="4500720" y="4149720"/>
                <a:ext cx="647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74"/>
              <p:cNvSpPr/>
              <p:nvPr/>
            </p:nvSpPr>
            <p:spPr>
              <a:xfrm>
                <a:off x="4572000" y="5013360"/>
                <a:ext cx="647640" cy="4316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75"/>
              <p:cNvSpPr/>
              <p:nvPr/>
            </p:nvSpPr>
            <p:spPr>
              <a:xfrm>
                <a:off x="4643280" y="5157720"/>
                <a:ext cx="505080" cy="21600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318" h="136">
                    <a:moveTo>
                      <a:pt x="0" y="136"/>
                    </a:moveTo>
                    <a:lnTo>
                      <a:pt x="91" y="0"/>
                    </a:lnTo>
                    <a:lnTo>
                      <a:pt x="136" y="90"/>
                    </a:lnTo>
                    <a:lnTo>
                      <a:pt x="318" y="4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4643280" y="458136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4643280" y="472428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78"/>
              <p:cNvSpPr/>
              <p:nvPr/>
            </p:nvSpPr>
            <p:spPr>
              <a:xfrm>
                <a:off x="4643280" y="4869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Freeform 79"/>
            <p:cNvSpPr/>
            <p:nvPr/>
          </p:nvSpPr>
          <p:spPr>
            <a:xfrm>
              <a:off x="3214800" y="4037040"/>
              <a:ext cx="1012680" cy="15084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638" h="95">
                  <a:moveTo>
                    <a:pt x="0" y="95"/>
                  </a:moveTo>
                  <a:cubicBezTo>
                    <a:pt x="45" y="80"/>
                    <a:pt x="164" y="6"/>
                    <a:pt x="270" y="3"/>
                  </a:cubicBezTo>
                  <a:cubicBezTo>
                    <a:pt x="376" y="0"/>
                    <a:pt x="561" y="62"/>
                    <a:pt x="638" y="77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80"/>
          <p:cNvGrpSpPr/>
          <p:nvPr/>
        </p:nvGrpSpPr>
        <p:grpSpPr>
          <a:xfrm>
            <a:off x="1032480" y="3680640"/>
            <a:ext cx="1494720" cy="1436040"/>
            <a:chOff x="1032480" y="3680640"/>
            <a:chExt cx="1494720" cy="1436040"/>
          </a:xfrm>
        </p:grpSpPr>
        <p:sp>
          <p:nvSpPr>
            <p:cNvPr id="238" name="AutoShape 81"/>
            <p:cNvSpPr/>
            <p:nvPr/>
          </p:nvSpPr>
          <p:spPr>
            <a:xfrm rot="5853000">
              <a:off x="1259280" y="3572640"/>
              <a:ext cx="792000" cy="1152360"/>
            </a:xfrm>
            <a:prstGeom prst="can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2"/>
            <p:cNvSpPr/>
            <p:nvPr/>
          </p:nvSpPr>
          <p:spPr>
            <a:xfrm>
              <a:off x="2049480" y="4483080"/>
              <a:ext cx="477720" cy="63360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0" y="0"/>
                  </a:moveTo>
                  <a:cubicBezTo>
                    <a:pt x="19" y="3"/>
                    <a:pt x="40" y="1"/>
                    <a:pt x="56" y="10"/>
                  </a:cubicBezTo>
                  <a:cubicBezTo>
                    <a:pt x="66" y="16"/>
                    <a:pt x="73" y="105"/>
                    <a:pt x="75" y="112"/>
                  </a:cubicBezTo>
                  <a:cubicBezTo>
                    <a:pt x="84" y="147"/>
                    <a:pt x="122" y="148"/>
                    <a:pt x="56" y="130"/>
                  </a:cubicBezTo>
                  <a:cubicBezTo>
                    <a:pt x="50" y="121"/>
                    <a:pt x="33" y="112"/>
                    <a:pt x="38" y="102"/>
                  </a:cubicBezTo>
                  <a:cubicBezTo>
                    <a:pt x="42" y="93"/>
                    <a:pt x="72" y="105"/>
                    <a:pt x="65" y="112"/>
                  </a:cubicBezTo>
                  <a:cubicBezTo>
                    <a:pt x="51" y="126"/>
                    <a:pt x="28" y="124"/>
                    <a:pt x="10" y="130"/>
                  </a:cubicBezTo>
                  <a:cubicBezTo>
                    <a:pt x="1" y="133"/>
                    <a:pt x="38" y="121"/>
                    <a:pt x="38" y="121"/>
                  </a:cubicBezTo>
                  <a:cubicBezTo>
                    <a:pt x="41" y="112"/>
                    <a:pt x="54" y="100"/>
                    <a:pt x="47" y="93"/>
                  </a:cubicBezTo>
                  <a:cubicBezTo>
                    <a:pt x="40" y="86"/>
                    <a:pt x="21" y="92"/>
                    <a:pt x="19" y="102"/>
                  </a:cubicBezTo>
                  <a:cubicBezTo>
                    <a:pt x="16" y="113"/>
                    <a:pt x="28" y="126"/>
                    <a:pt x="38" y="130"/>
                  </a:cubicBezTo>
                  <a:cubicBezTo>
                    <a:pt x="61" y="139"/>
                    <a:pt x="87" y="137"/>
                    <a:pt x="112" y="140"/>
                  </a:cubicBezTo>
                  <a:cubicBezTo>
                    <a:pt x="132" y="201"/>
                    <a:pt x="78" y="174"/>
                    <a:pt x="38" y="167"/>
                  </a:cubicBezTo>
                  <a:cubicBezTo>
                    <a:pt x="16" y="136"/>
                    <a:pt x="6" y="140"/>
                    <a:pt x="47" y="130"/>
                  </a:cubicBezTo>
                  <a:cubicBezTo>
                    <a:pt x="62" y="126"/>
                    <a:pt x="78" y="124"/>
                    <a:pt x="93" y="121"/>
                  </a:cubicBezTo>
                  <a:cubicBezTo>
                    <a:pt x="87" y="112"/>
                    <a:pt x="70" y="103"/>
                    <a:pt x="75" y="93"/>
                  </a:cubicBezTo>
                  <a:cubicBezTo>
                    <a:pt x="80" y="84"/>
                    <a:pt x="97" y="94"/>
                    <a:pt x="103" y="102"/>
                  </a:cubicBezTo>
                  <a:cubicBezTo>
                    <a:pt x="111" y="112"/>
                    <a:pt x="102" y="132"/>
                    <a:pt x="112" y="140"/>
                  </a:cubicBezTo>
                  <a:cubicBezTo>
                    <a:pt x="124" y="150"/>
                    <a:pt x="143" y="146"/>
                    <a:pt x="158" y="149"/>
                  </a:cubicBezTo>
                  <a:cubicBezTo>
                    <a:pt x="149" y="155"/>
                    <a:pt x="140" y="162"/>
                    <a:pt x="130" y="167"/>
                  </a:cubicBezTo>
                  <a:cubicBezTo>
                    <a:pt x="121" y="171"/>
                    <a:pt x="105" y="168"/>
                    <a:pt x="103" y="177"/>
                  </a:cubicBezTo>
                  <a:cubicBezTo>
                    <a:pt x="97" y="204"/>
                    <a:pt x="137" y="210"/>
                    <a:pt x="149" y="214"/>
                  </a:cubicBezTo>
                  <a:cubicBezTo>
                    <a:pt x="159" y="244"/>
                    <a:pt x="148" y="283"/>
                    <a:pt x="168" y="307"/>
                  </a:cubicBezTo>
                  <a:cubicBezTo>
                    <a:pt x="176" y="317"/>
                    <a:pt x="193" y="301"/>
                    <a:pt x="205" y="298"/>
                  </a:cubicBezTo>
                  <a:cubicBezTo>
                    <a:pt x="161" y="268"/>
                    <a:pt x="165" y="235"/>
                    <a:pt x="149" y="186"/>
                  </a:cubicBezTo>
                  <a:cubicBezTo>
                    <a:pt x="152" y="214"/>
                    <a:pt x="148" y="244"/>
                    <a:pt x="158" y="270"/>
                  </a:cubicBezTo>
                  <a:cubicBezTo>
                    <a:pt x="162" y="279"/>
                    <a:pt x="179" y="272"/>
                    <a:pt x="186" y="279"/>
                  </a:cubicBezTo>
                  <a:cubicBezTo>
                    <a:pt x="193" y="286"/>
                    <a:pt x="186" y="303"/>
                    <a:pt x="195" y="307"/>
                  </a:cubicBezTo>
                  <a:cubicBezTo>
                    <a:pt x="221" y="317"/>
                    <a:pt x="251" y="313"/>
                    <a:pt x="279" y="316"/>
                  </a:cubicBezTo>
                  <a:cubicBezTo>
                    <a:pt x="290" y="372"/>
                    <a:pt x="282" y="348"/>
                    <a:pt x="298" y="390"/>
                  </a:cubicBezTo>
                  <a:cubicBezTo>
                    <a:pt x="301" y="399"/>
                    <a:pt x="295" y="370"/>
                    <a:pt x="288" y="363"/>
                  </a:cubicBezTo>
                  <a:cubicBezTo>
                    <a:pt x="272" y="347"/>
                    <a:pt x="233" y="325"/>
                    <a:pt x="233" y="325"/>
                  </a:cubicBezTo>
                  <a:cubicBezTo>
                    <a:pt x="222" y="295"/>
                    <a:pt x="186" y="242"/>
                    <a:pt x="186" y="242"/>
                  </a:cubicBezTo>
                  <a:cubicBezTo>
                    <a:pt x="174" y="204"/>
                    <a:pt x="159" y="189"/>
                    <a:pt x="121" y="177"/>
                  </a:cubicBezTo>
                  <a:cubicBezTo>
                    <a:pt x="198" y="150"/>
                    <a:pt x="186" y="215"/>
                    <a:pt x="205" y="270"/>
                  </a:cubicBezTo>
                  <a:cubicBezTo>
                    <a:pt x="199" y="279"/>
                    <a:pt x="196" y="303"/>
                    <a:pt x="186" y="298"/>
                  </a:cubicBezTo>
                  <a:cubicBezTo>
                    <a:pt x="166" y="288"/>
                    <a:pt x="149" y="242"/>
                    <a:pt x="149" y="242"/>
                  </a:cubicBezTo>
                  <a:cubicBezTo>
                    <a:pt x="134" y="179"/>
                    <a:pt x="102" y="171"/>
                    <a:pt x="47" y="158"/>
                  </a:cubicBezTo>
                  <a:cubicBezTo>
                    <a:pt x="56" y="155"/>
                    <a:pt x="65" y="149"/>
                    <a:pt x="75" y="149"/>
                  </a:cubicBezTo>
                  <a:cubicBezTo>
                    <a:pt x="130" y="149"/>
                    <a:pt x="93" y="204"/>
                    <a:pt x="84" y="233"/>
                  </a:cubicBezTo>
                  <a:cubicBezTo>
                    <a:pt x="121" y="257"/>
                    <a:pt x="135" y="245"/>
                    <a:pt x="149" y="288"/>
                  </a:cubicBezTo>
                  <a:cubicBezTo>
                    <a:pt x="137" y="325"/>
                    <a:pt x="121" y="344"/>
                    <a:pt x="93" y="372"/>
                  </a:cubicBezTo>
                  <a:cubicBezTo>
                    <a:pt x="102" y="375"/>
                    <a:pt x="112" y="385"/>
                    <a:pt x="121" y="381"/>
                  </a:cubicBezTo>
                  <a:cubicBezTo>
                    <a:pt x="146" y="371"/>
                    <a:pt x="136" y="341"/>
                    <a:pt x="149" y="325"/>
                  </a:cubicBezTo>
                  <a:cubicBezTo>
                    <a:pt x="156" y="316"/>
                    <a:pt x="168" y="313"/>
                    <a:pt x="177" y="307"/>
                  </a:cubicBezTo>
                  <a:cubicBezTo>
                    <a:pt x="168" y="301"/>
                    <a:pt x="157" y="280"/>
                    <a:pt x="149" y="288"/>
                  </a:cubicBezTo>
                  <a:cubicBezTo>
                    <a:pt x="140" y="297"/>
                    <a:pt x="147" y="319"/>
                    <a:pt x="158" y="325"/>
                  </a:cubicBezTo>
                  <a:cubicBezTo>
                    <a:pt x="166" y="329"/>
                    <a:pt x="160" y="303"/>
                    <a:pt x="168" y="298"/>
                  </a:cubicBezTo>
                  <a:cubicBezTo>
                    <a:pt x="184" y="289"/>
                    <a:pt x="205" y="291"/>
                    <a:pt x="223" y="288"/>
                  </a:cubicBezTo>
                  <a:cubicBezTo>
                    <a:pt x="235" y="254"/>
                    <a:pt x="224" y="264"/>
                    <a:pt x="251" y="251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83"/>
          <p:cNvGrpSpPr/>
          <p:nvPr/>
        </p:nvGrpSpPr>
        <p:grpSpPr>
          <a:xfrm>
            <a:off x="1908000" y="3052800"/>
            <a:ext cx="865440" cy="1298520"/>
            <a:chOff x="1908000" y="3052800"/>
            <a:chExt cx="865440" cy="1298520"/>
          </a:xfrm>
        </p:grpSpPr>
        <p:sp>
          <p:nvSpPr>
            <p:cNvPr id="241" name="Freeform 84"/>
            <p:cNvSpPr/>
            <p:nvPr/>
          </p:nvSpPr>
          <p:spPr>
            <a:xfrm>
              <a:off x="2268360" y="4299120"/>
              <a:ext cx="505080" cy="5220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8" h="33">
                  <a:moveTo>
                    <a:pt x="0" y="1"/>
                  </a:moveTo>
                  <a:cubicBezTo>
                    <a:pt x="25" y="2"/>
                    <a:pt x="97" y="0"/>
                    <a:pt x="150" y="5"/>
                  </a:cubicBezTo>
                  <a:cubicBezTo>
                    <a:pt x="203" y="10"/>
                    <a:pt x="283" y="27"/>
                    <a:pt x="318" y="33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5"/>
            <p:cNvSpPr/>
            <p:nvPr/>
          </p:nvSpPr>
          <p:spPr>
            <a:xfrm>
              <a:off x="1908000" y="3052800"/>
              <a:ext cx="584280" cy="59832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368" h="377">
                  <a:moveTo>
                    <a:pt x="0" y="377"/>
                  </a:moveTo>
                  <a:cubicBezTo>
                    <a:pt x="24" y="337"/>
                    <a:pt x="84" y="202"/>
                    <a:pt x="145" y="139"/>
                  </a:cubicBezTo>
                  <a:cubicBezTo>
                    <a:pt x="206" y="76"/>
                    <a:pt x="322" y="29"/>
                    <a:pt x="36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6"/>
          <p:cNvGrpSpPr/>
          <p:nvPr/>
        </p:nvGrpSpPr>
        <p:grpSpPr>
          <a:xfrm>
            <a:off x="1519200" y="2227320"/>
            <a:ext cx="2543040" cy="1400040"/>
            <a:chOff x="1519200" y="2227320"/>
            <a:chExt cx="2543040" cy="1400040"/>
          </a:xfrm>
        </p:grpSpPr>
        <p:sp>
          <p:nvSpPr>
            <p:cNvPr id="244" name="Freeform 87"/>
            <p:cNvSpPr/>
            <p:nvPr/>
          </p:nvSpPr>
          <p:spPr>
            <a:xfrm>
              <a:off x="3433680" y="2227320"/>
              <a:ext cx="471600" cy="3049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998" h="518">
                  <a:moveTo>
                    <a:pt x="0" y="518"/>
                  </a:moveTo>
                  <a:cubicBezTo>
                    <a:pt x="11" y="270"/>
                    <a:pt x="160" y="159"/>
                    <a:pt x="281" y="84"/>
                  </a:cubicBezTo>
                  <a:cubicBezTo>
                    <a:pt x="402" y="9"/>
                    <a:pt x="607" y="0"/>
                    <a:pt x="726" y="65"/>
                  </a:cubicBezTo>
                  <a:cubicBezTo>
                    <a:pt x="845" y="130"/>
                    <a:pt x="977" y="223"/>
                    <a:pt x="998" y="473"/>
                  </a:cubicBezTo>
                  <a:cubicBezTo>
                    <a:pt x="606" y="493"/>
                    <a:pt x="271" y="502"/>
                    <a:pt x="0" y="518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8"/>
            <p:cNvSpPr/>
            <p:nvPr/>
          </p:nvSpPr>
          <p:spPr>
            <a:xfrm>
              <a:off x="3292560" y="3073320"/>
              <a:ext cx="272880" cy="316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9"/>
            <p:cNvSpPr/>
            <p:nvPr/>
          </p:nvSpPr>
          <p:spPr>
            <a:xfrm flipH="1">
              <a:off x="3780000" y="3029040"/>
              <a:ext cx="282240" cy="341280"/>
            </a:xfrm>
            <a:custGeom>
              <a:avLst/>
              <a:gdLst>
                <a:gd name="textAreaLeft" fmla="*/ 360 w 282240"/>
                <a:gd name="textAreaRight" fmla="*/ 282960 w 282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0"/>
            <p:cNvSpPr/>
            <p:nvPr/>
          </p:nvSpPr>
          <p:spPr>
            <a:xfrm>
              <a:off x="1519200" y="2400480"/>
              <a:ext cx="1825560" cy="122688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1150" h="773">
                  <a:moveTo>
                    <a:pt x="1150" y="0"/>
                  </a:moveTo>
                  <a:cubicBezTo>
                    <a:pt x="1047" y="27"/>
                    <a:pt x="721" y="31"/>
                    <a:pt x="529" y="160"/>
                  </a:cubicBezTo>
                  <a:cubicBezTo>
                    <a:pt x="337" y="289"/>
                    <a:pt x="110" y="645"/>
                    <a:pt x="0" y="773"/>
                  </a:cubicBezTo>
                </a:path>
              </a:pathLst>
            </a:custGeom>
            <a:noFill/>
            <a:ln w="63360">
              <a:solidFill>
                <a:srgbClr val="7bc143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91"/>
          <p:cNvGrpSpPr/>
          <p:nvPr/>
        </p:nvGrpSpPr>
        <p:grpSpPr>
          <a:xfrm>
            <a:off x="3952800" y="2639880"/>
            <a:ext cx="3376800" cy="1992600"/>
            <a:chOff x="3952800" y="2639880"/>
            <a:chExt cx="3376800" cy="1992600"/>
          </a:xfrm>
        </p:grpSpPr>
        <p:sp>
          <p:nvSpPr>
            <p:cNvPr id="249" name="Freeform 92"/>
            <p:cNvSpPr/>
            <p:nvPr/>
          </p:nvSpPr>
          <p:spPr>
            <a:xfrm>
              <a:off x="5292720" y="2736720"/>
              <a:ext cx="1004760" cy="105264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633" h="663">
                  <a:moveTo>
                    <a:pt x="633" y="78"/>
                  </a:moveTo>
                  <a:cubicBezTo>
                    <a:pt x="570" y="83"/>
                    <a:pt x="357" y="0"/>
                    <a:pt x="252" y="97"/>
                  </a:cubicBezTo>
                  <a:cubicBezTo>
                    <a:pt x="147" y="194"/>
                    <a:pt x="53" y="545"/>
                    <a:pt x="0" y="663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3"/>
            <p:cNvSpPr/>
            <p:nvPr/>
          </p:nvSpPr>
          <p:spPr>
            <a:xfrm>
              <a:off x="3952800" y="2639880"/>
              <a:ext cx="687600" cy="1128960"/>
            </a:xfrm>
            <a:custGeom>
              <a:avLst/>
              <a:gdLst>
                <a:gd name="textAreaLeft" fmla="*/ 0 w 687600"/>
                <a:gd name="textAreaRight" fmla="*/ 687960 w 687600"/>
                <a:gd name="textAreaTop" fmla="*/ 0 h 1128960"/>
                <a:gd name="textAreaBottom" fmla="*/ 1129320 h 1128960"/>
              </a:gdLst>
              <a:ahLst/>
              <a:rect l="textAreaLeft" t="textAreaTop" r="textAreaRight" b="textAreaBottom"/>
              <a:pathLst>
                <a:path w="433" h="711">
                  <a:moveTo>
                    <a:pt x="433" y="711"/>
                  </a:moveTo>
                  <a:cubicBezTo>
                    <a:pt x="420" y="613"/>
                    <a:pt x="425" y="239"/>
                    <a:pt x="353" y="121"/>
                  </a:cubicBezTo>
                  <a:cubicBezTo>
                    <a:pt x="281" y="3"/>
                    <a:pt x="74" y="25"/>
                    <a:pt x="0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4"/>
            <p:cNvSpPr/>
            <p:nvPr/>
          </p:nvSpPr>
          <p:spPr>
            <a:xfrm>
              <a:off x="5530680" y="3651120"/>
              <a:ext cx="619200" cy="5526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90" h="348">
                  <a:moveTo>
                    <a:pt x="0" y="153"/>
                  </a:moveTo>
                  <a:cubicBezTo>
                    <a:pt x="45" y="133"/>
                    <a:pt x="204" y="0"/>
                    <a:pt x="269" y="32"/>
                  </a:cubicBezTo>
                  <a:cubicBezTo>
                    <a:pt x="334" y="64"/>
                    <a:pt x="365" y="282"/>
                    <a:pt x="390" y="348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5"/>
            <p:cNvSpPr/>
            <p:nvPr/>
          </p:nvSpPr>
          <p:spPr>
            <a:xfrm>
              <a:off x="6415200" y="3760920"/>
              <a:ext cx="914400" cy="8715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576" h="549">
                  <a:moveTo>
                    <a:pt x="0" y="502"/>
                  </a:moveTo>
                  <a:cubicBezTo>
                    <a:pt x="48" y="496"/>
                    <a:pt x="192" y="549"/>
                    <a:pt x="288" y="465"/>
                  </a:cubicBezTo>
                  <a:cubicBezTo>
                    <a:pt x="384" y="381"/>
                    <a:pt x="516" y="97"/>
                    <a:pt x="576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Päätösanalyysi ja riskin halli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0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yritään luomaan/kehittämään hyvin perusteltua yhteistä uskomusjärjestelmää, joka ohjaa yhteiskunnallisesti merkittävää toiminta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751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rkoituksellisesti tuotettu jaettu tieto on keino (means) pyrkiä kohti toivottuja päämääriä (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 työkaluna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501300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Mikä määrittää onko vasara hyv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Onko tiedolla ja vasaralla oikeastaan ero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Hammer2"/>
          <p:cNvPicPr/>
          <p:nvPr/>
        </p:nvPicPr>
        <p:blipFill>
          <a:blip r:embed="rId1"/>
          <a:stretch/>
        </p:blipFill>
        <p:spPr>
          <a:xfrm>
            <a:off x="971640" y="1760400"/>
            <a:ext cx="3424320" cy="2987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Mallet"/>
          <p:cNvPicPr/>
          <p:nvPr/>
        </p:nvPicPr>
        <p:blipFill>
          <a:blip r:embed="rId2"/>
          <a:stretch/>
        </p:blipFill>
        <p:spPr>
          <a:xfrm>
            <a:off x="5832360" y="1197000"/>
            <a:ext cx="2268720" cy="849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Wooden_mallet"/>
          <p:cNvPicPr/>
          <p:nvPr/>
        </p:nvPicPr>
        <p:blipFill>
          <a:blip r:embed="rId3"/>
          <a:stretch/>
        </p:blipFill>
        <p:spPr>
          <a:xfrm>
            <a:off x="5859360" y="2300400"/>
            <a:ext cx="2241720" cy="965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ammer_tapissier"/>
          <p:cNvPicPr/>
          <p:nvPr/>
        </p:nvPicPr>
        <p:blipFill>
          <a:blip r:embed="rId4"/>
          <a:stretch/>
        </p:blipFill>
        <p:spPr>
          <a:xfrm>
            <a:off x="5867280" y="3260880"/>
            <a:ext cx="22338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t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DARM-täydennyskoulutusten sarja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iheeseen liittyviä tapahtum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äivän ohjel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hdatus päätösanalyysiin ja riskinhallint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ieni harjoi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Harjoitus 1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Kuopion vuotuiset KHK-päästöt ovat n. 1 Mt CO2-ek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Kuopion vuotuisten KHK-päästöjen vähennystavoite vuoteen 2020 mennessä on 40%, eli n. 400000 t CO2-ekv</a:t>
            </a:r>
            <a:br>
              <a:rPr sz="2600"/>
            </a:br>
            <a:br>
              <a:rPr sz="2600"/>
            </a:b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inka suuret ovat Kuopion vuotuiset KHK-päästö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ukolämmön tuotanno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ikenteest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rillislämmityksestä (ei kaukolämpö, ei sähkölämmity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Harjoitus 2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0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iikenne ja asuntojen lämmitys ovat keskeisiä energiaa kuluttavia ja KHK-päästöjä aiheuttavia arkipäiväisiä toimintoja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tä muita kuin ilmastonmuutosriskejä liikenteeseen ja/tai lämmitykseen liitty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tä liikenteen ja/tai lämmityksen KHK-päästöihin vaikuttavia päätöksentekijöitä ja toimijoita tunnist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etkä voivat vaikuttaa liikenteestä ja lämmityksestä johtuviin KHK-päästöih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elm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don ja toiminnan kompleksisu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stotiede ja –politiikka sekä vaikutusarviointi ovat kukin monimutkaisia asioita ja sinän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n kuitenkin mahdollista (välttämätöntä) tuoda ne yhteen avoimeksi tiedon tuotannon ja hyödyntämisen prosessi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=&gt;tieteellä, arvioinneilla ja politiikalla ei ole arvoa sinänsä, arvo syntyy niiden (yhdessä) aikaansaamista vaikutuksist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ttely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ni Tuomisto (LT), Mikko Pohjola (D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HL, YMTO, Y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n arviointi (open assessment), Opas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RAC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DARM-täydennyskoulutu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DARM-täydennyskoulutusten sarja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sanalyysia ja riskinhallintaa tapausesimerkin kautta 5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ksenteko epävarmuuden oloissa 19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Yhteisöllinen oppiminen 8.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 ja kansalaiskuuleminen päätöksenteossa: menetelmiä ja työkaluja 29.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sätietoa: 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fi.opasnet.org/fi/Eracedu</a:t>
            </a:r>
            <a:br>
              <a:rPr sz="2600"/>
            </a:br>
            <a:br>
              <a:rPr sz="2600"/>
            </a:b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600" spc="-1" strike="noStrike">
                <a:solidFill>
                  <a:srgbClr val="000000"/>
                </a:solidFill>
                <a:latin typeface="Arial"/>
              </a:rPr>
              <a:t>DARM = Decision analysis and risk management (päätösanalyysi ja riskinhallin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iheeseen liittyviä muita tapahtum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DARM-kurssi 2-4/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tä-Suomen yliopiston ToxEn maisteriohjel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muita, lähinnä ympäristötieteen, opiskelijo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tösanalyysiharjoitus: sikainfluenssa, rokotukset ja narkolep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uentomateriaalit, taustamateriaalia, luentovideoita, harjoitustyöt yms. saatavilla netissä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en.opasnet.org/w/Darm</a:t>
            </a:r>
            <a:br>
              <a:rPr sz="2000"/>
            </a:br>
            <a:r>
              <a:rPr b="0" lang="fi-FI" sz="2000" spc="-1" strike="noStrike" u="sng">
                <a:solidFill>
                  <a:srgbClr val="6bc9c7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URGENCHE-projekti 9/2011 – 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äytännönläheistä kaupunkitason ilmastopolitiikka-analyysi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Ilmasto-, terveys- (ja talous-)vaikutuks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 Euroopan, 2 Kiinan kaupun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uomesta mukana Kuopio, THL ja SY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upungit projektissa aktiivisina partnere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6bc9c7"/>
                </a:solidFill>
                <a:uFillTx/>
                <a:latin typeface="Arial"/>
                <a:hlinkClick r:id="rId2"/>
              </a:rPr>
              <a:t>http://en.opasnet.org/w/Urge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ivän ohjelm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Päivän ohjel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9.00 Aloitus ja tervetu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9.15 Johdatus riskinhallintaan ja päätösanalyysiin (sisältää pienen harjoituks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10.00 Kahvi (sis. hinta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0.30 Kuopion ilmastopoliittisen ohjelman (2009-2010) esittely (Erkki Pärjälä) ja tarkastelu (Mikko Pohjo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12.00 Lounas (omakustantei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3.00 Energiataseajattelu ja yhteisen tiedon luominen ilmastopolitiikan ap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14.00 Kahvi (omakustantein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14.30 Harjoitus/keskustelu: KHK-päästöjä vähentävät toimenpiteet ja niiden toteutettavu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16.00 Päätö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Johdatus päätösanalyysiin ja riskinhallintaa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Riskinarviointi yhteiskunnass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eellisen tiedon ja arvoarvostelmien keruuta, yhdistämistä ja tulkintaa yhteiskunnan hyödy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iskinhallinta on riskinarvioinnin tuottaman tiedon hyödyntämistä yhteiskunnan tarpeita va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RA-SH_chain"/>
          <p:cNvPicPr/>
          <p:nvPr/>
        </p:nvPicPr>
        <p:blipFill>
          <a:blip r:embed="rId1"/>
          <a:stretch/>
        </p:blipFill>
        <p:spPr>
          <a:xfrm>
            <a:off x="108000" y="3032280"/>
            <a:ext cx="89377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0908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Riskinarvioinnin/-hallinnan viitekehy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02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ärjestelmällistä analyysiä yhteiskunnallisten tarpeiden muk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98560" y="2352600"/>
            <a:ext cx="6913440" cy="388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Hiltunen Laura</cp:lastModifiedBy>
  <dcterms:modified xsi:type="dcterms:W3CDTF">2014-02-27T10:33:20Z</dcterms:modified>
  <cp:revision>19</cp:revision>
  <dc:subject/>
  <dc:title>Avoin mallitus. Esimerkkinä liikenteen muutosten päästövaikutukset ja sairastuvuus</dc:title>
</cp:coreProperties>
</file>